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63E-DDCB-4FC7-A783-6852BE3A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118-4E1E-46B1-9003-EA9454A0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E90-7364-43C2-AC10-EE7041A8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CBB-62C5-49D8-AFEB-9E559B6B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C77-85B6-45C5-9EB5-8166A788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EF8E-4077-4E6E-9BCE-241587ED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8C32-809A-4A9C-8AF2-D9BF6855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D45-6DE3-49B6-A5DD-C31AB5D5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D93-61E9-4A0B-B870-034B8CBB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120-BAFD-486F-8461-7A733BDA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9E1-7F73-42FB-AC7A-653EE963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73D-1F3A-416E-A716-0C1DEBF7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8D20-88B0-4693-873C-E9C7BC6A9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rchart.esc12.net/resource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4824" t="0" r="0" b="27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as ST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441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by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 -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Texas ST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 STaR Chart is designed to help teachers, campuses, and districts determine their progress toward meeting the goals of the Long-Range Plan for Technology, as well as meeting the goals of the distri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Areas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and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or Preparation and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dministration and Instructional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ngs 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= Early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= Developing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= Advanced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= Target 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– Reach Target Tech by the end of 2020 in compliance with TEA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Range Plan for Technology (LRP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n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have regular weekly access and use of technology and digital resources for curriculum in the classroom, library, or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use technology to support conten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5467" t="32672" r="25003" b="39337"/>
          <a:stretch/>
        </p:blipFill>
        <p:spPr>
          <a:xfrm>
            <a:off x="1295280" y="1447920"/>
            <a:ext cx="6782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ducator Preparation &amp; Develop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on campus demonstrate four SBEC Technology Applications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use technology as a tool in and across content areas to enhance higher order think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467" t="62005" r="24220" b="8669"/>
          <a:stretch/>
        </p:blipFill>
        <p:spPr>
          <a:xfrm>
            <a:off x="1143000" y="1295280"/>
            <a:ext cx="6858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dership Administration and Instructional Sup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leadership communicates and implements a shared vision and obtains buy-in for comprehensive integration of technology leading to increased student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discretionary funds and other resources are allocated to advance implementation of most of the technology strategies to meet the goals and objectives outlined in the Campus Improve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6250" t="20670" r="25003" b="50003"/>
          <a:stretch/>
        </p:blipFill>
        <p:spPr>
          <a:xfrm>
            <a:off x="1295280" y="1676520"/>
            <a:ext cx="67057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 for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or less students per Internet connected multimedia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connectivity to the Internet available at the campus in at least 75% of the rooms, including th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technical staff to 351-500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ed computer per educator with assigned use of  multimedia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6250" t="50003" r="25003" b="19335"/>
          <a:stretch/>
        </p:blipFill>
        <p:spPr>
          <a:xfrm>
            <a:off x="1143000" y="1447920"/>
            <a:ext cx="6705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rchart.esc12.net/resourc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wn Renee F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5:11:52Z</dcterms:created>
  <dc:creator>User</dc:creator>
  <dc:description/>
  <dc:language>en-US</dc:language>
  <cp:lastModifiedBy>User</cp:lastModifiedBy>
  <dcterms:modified xsi:type="dcterms:W3CDTF">2010-07-15T06:04:52Z</dcterms:modified>
  <cp:revision>10</cp:revision>
  <dc:subject/>
  <dc:title>Texas STaR Chart</dc:title>
</cp:coreProperties>
</file>