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BF9-9AC7-4D19-96A2-740DAD2C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718-5F01-43C9-892F-25D5609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E99-8DF9-4599-B5DC-1F6CD120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E6B-B8D4-41E6-B1AB-106CEDE9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48E-D01E-4D20-812C-C8077CD6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D58-0923-4B1E-B4A3-F030ADBB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512-E195-4CC0-B7D8-BF62C78C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E39-787C-4E46-81A1-3D9CEE8E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8F7-CD46-4AC6-8792-5D6AED10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9A0-D6D1-47FC-B360-C67D1F6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9C2-E10C-4C61-A662-81C54C1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5EA-A0FF-4386-AC6B-743D2E92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B573-001F-4A54-8032-E710A05AE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rchart.esc12.net/resourc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824" t="0" r="0" b="27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41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by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TaR Chart is designed to help teachers, campuses, and districts determine their progress toward meeting the goals of the Long-Range Plan for Technology, as well as meeting the goals of the distri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Area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 Preparation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s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Early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Developing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Advanced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Target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– Reach Target Tech by the end of 2020 in compliance with TE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ange Plan for Technology (LRP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regular weekly access and use of technology and digital resources for curriculum in the classroom, library, or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to support cont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467" t="32672" r="25003" b="39337"/>
          <a:stretch/>
        </p:blipFill>
        <p:spPr>
          <a:xfrm>
            <a:off x="1295280" y="1447920"/>
            <a:ext cx="678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ucator Preparation &amp; Develop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on campus demonstrate four SBEC Technology Application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as a tool in and across content areas to enhanc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467" t="62005" r="24220" b="8669"/>
          <a:stretch/>
        </p:blipFill>
        <p:spPr>
          <a:xfrm>
            <a:off x="1143000" y="1295280"/>
            <a:ext cx="6858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leadership communicates and implements a shared vision and obtains buy-in for comprehensive integration of technology leading to increased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discretionary funds and other resources are allocated to advance implementation of most of the technology strategies to meet the goals and objectives outlined in the Campus Improv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250" t="20670" r="25003" b="50003"/>
          <a:stretch/>
        </p:blipFill>
        <p:spPr>
          <a:xfrm>
            <a:off x="1295280" y="1676520"/>
            <a:ext cx="6705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or less students per Internet connected multimedi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nectivity to the Internet available at the campus in at least 75% of the rooms, including th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technical staff to 351-500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computer per educator with assigned use of  multimedia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250" t="50003" r="25003" b="19335"/>
          <a:stretch/>
        </p:blipFill>
        <p:spPr>
          <a:xfrm>
            <a:off x="1143000" y="1447920"/>
            <a:ext cx="670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rchart.esc12.net/resourc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wn Renee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5:11:52Z</dcterms:created>
  <dc:creator>User</dc:creator>
  <dc:description/>
  <dc:language>en-US</dc:language>
  <cp:lastModifiedBy>User</cp:lastModifiedBy>
  <dcterms:modified xsi:type="dcterms:W3CDTF">2010-07-15T06:04:52Z</dcterms:modified>
  <cp:revision>10</cp:revision>
  <dc:subject/>
  <dc:title>Texas STaR Chart</dc:title>
</cp:coreProperties>
</file>