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28A-2C8B-4FC8-BACA-6258A5CB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0FA-882A-4242-99A5-14F5B519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2C2-6A2B-4A38-BA3D-A34C24C8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2C3-C16F-441A-B1E1-309D4E60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286-2D16-4203-9B1B-45058329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C96-F162-4DBC-8BB1-B933FDA5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BB9-92C4-457B-A379-74341CA2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006-F6C2-44AA-9390-3C15EFE8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126-302D-459C-93E3-0AEE48B8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370-9309-4518-9F2F-BCE79451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34F-3804-49EC-8441-9E1592C4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D52-DBEF-40DA-86CF-6AC53122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87B5-8904-475D-90B8-E462AC668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rchart.esc12.net/resource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4824" t="0" r="0" b="27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41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by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-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STaR Chart is designed to help teachers, campuses, and districts determine their progress toward meeting the goals of the Long-Range Plan for Technology, as well as meeting the goals of the distri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Areas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and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or Preparation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ngs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= Early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= Developing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= Advanced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= Target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– Reach Target Tech by the end of 2020 in compliance with TE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Range Plan for Technology (LRP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n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have regular weekly access and use of technology and digital resources for curriculum in the classroom, library, or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to support conten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5467" t="32672" r="25003" b="39337"/>
          <a:stretch/>
        </p:blipFill>
        <p:spPr>
          <a:xfrm>
            <a:off x="1295280" y="1447920"/>
            <a:ext cx="6782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ucator Preparation &amp; Develop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on campus demonstrate four SBEC Technology Applications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as a tool in and across content areas to enhance higher order think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467" t="62005" r="24220" b="8669"/>
          <a:stretch/>
        </p:blipFill>
        <p:spPr>
          <a:xfrm>
            <a:off x="1143000" y="1295280"/>
            <a:ext cx="6858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leadership communicates and implements a shared vision and obtains buy-in for comprehensive integration of technology leading to increased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discretionary funds and other resources are allocated to advance implementation of most of the technology strategies to meet the goals and objectives outlined in the Campus Improve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6250" t="20670" r="25003" b="50003"/>
          <a:stretch/>
        </p:blipFill>
        <p:spPr>
          <a:xfrm>
            <a:off x="1295280" y="1676520"/>
            <a:ext cx="6705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or less students per Internet connected multimedia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onnectivity to the Internet available at the campus in at least 75% of the rooms, including th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technical staff to 351-500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ed computer per educator with assigned use of  multimedia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6250" t="50003" r="25003" b="19335"/>
          <a:stretch/>
        </p:blipFill>
        <p:spPr>
          <a:xfrm>
            <a:off x="1143000" y="1447920"/>
            <a:ext cx="6705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rchart.esc12.net/resourc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wn Renee F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5:11:52Z</dcterms:created>
  <dc:creator>User</dc:creator>
  <dc:description/>
  <dc:language>en-US</dc:language>
  <cp:lastModifiedBy>User</cp:lastModifiedBy>
  <dcterms:modified xsi:type="dcterms:W3CDTF">2010-07-15T06:04:52Z</dcterms:modified>
  <cp:revision>10</cp:revision>
  <dc:subject/>
  <dc:title>Texas STaR Chart</dc:title>
</cp:coreProperties>
</file>