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4F5-B271-4179-AEA3-667E3231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50C-6682-4F6B-8FE7-5066329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978-C1ED-4A5F-9B3A-6A144ED5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1E8-60B7-459E-ACB5-4D720313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83A-9A95-4C2A-A759-8F38C7AB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144-CF60-4542-AE59-464B3459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B0E-FD00-4E2D-B785-3152F9CE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14D-B3B9-43CE-91BA-76D49662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F7D-3E39-4F3C-BE69-F1E5D522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BFC-CBA6-4F3B-827F-A02C20D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E48-3697-4A99-B780-B23FCD6F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82C-9509-4574-9456-59704DC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5B49-C7F7-4486-AD57-023770435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rchart.esc12.net/resourc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824" t="0" r="0" b="27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41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by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-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Texas ST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TaR Chart is designed to help teachers, campuses, and districts determine their progress toward meeting the goals of the Long-Range Plan for Technology, as well as meeting the goals of the distri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Areas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 Preparation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s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Early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Developing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Advanced T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Target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– Reach Target Tech by the end of 2020 in compliance with TE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ange Plan for Technology (LRP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regular weekly access and use of technology and digital resources for curriculum in the classroom, library, or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to support conten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467" t="32672" r="25003" b="39337"/>
          <a:stretch/>
        </p:blipFill>
        <p:spPr>
          <a:xfrm>
            <a:off x="1295280" y="1447920"/>
            <a:ext cx="678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ducator Preparation &amp; Develop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on campus demonstrate four SBEC Technology Application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use technology as a tool in and across content areas to enhanc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467" t="62005" r="24220" b="8669"/>
          <a:stretch/>
        </p:blipFill>
        <p:spPr>
          <a:xfrm>
            <a:off x="1143000" y="1295280"/>
            <a:ext cx="6858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Administration and Instructional Sup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leadership communicates and implements a shared vision and obtains buy-in for comprehensive integration of technology leading to increased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discretionary funds and other resources are allocated to advance implementation of most of the technology strategies to meet the goals and objectives outlined in the Campus Improv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250" t="20670" r="25003" b="50003"/>
          <a:stretch/>
        </p:blipFill>
        <p:spPr>
          <a:xfrm>
            <a:off x="1295280" y="1676520"/>
            <a:ext cx="6705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or less students per Internet connected multimedi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nectivity to the Internet available at the campus in at least 75% of the rooms, including th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technical staff to 351-500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computer per educator with assigned use of  multimedia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250" t="50003" r="25003" b="19335"/>
          <a:stretch/>
        </p:blipFill>
        <p:spPr>
          <a:xfrm>
            <a:off x="1143000" y="1447920"/>
            <a:ext cx="670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archart.esc12.net/resourc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wn Renee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5:11:52Z</dcterms:created>
  <dc:creator>User</dc:creator>
  <dc:description/>
  <dc:language>en-US</dc:language>
  <cp:lastModifiedBy>User</cp:lastModifiedBy>
  <dcterms:modified xsi:type="dcterms:W3CDTF">2010-07-15T06:04:52Z</dcterms:modified>
  <cp:revision>10</cp:revision>
  <dc:subject/>
  <dc:title>Texas STaR Chart</dc:title>
</cp:coreProperties>
</file>